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6AE-C1F0-43D2-BB04-83BCF00C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967-CFC8-4D77-96D1-ADC0BAB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CEC-9FA4-4CCD-A672-12059B19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F51-3F81-4DB0-9716-33669E25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9D4-552B-422A-BB43-28386D8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2A0-E601-4ECA-86CE-C37A2C65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2D1-952F-47C0-A7C0-9B446D4D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9B9-DDCE-459F-8978-717A857F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5CC-5080-49DD-81C0-565F7DE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4D6-5474-4729-978E-A4BE56F9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68E-1857-41BC-B91D-D7532D3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200-F055-4FA9-A855-5DEADF3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rekker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rekk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rekk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kke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rekker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rekke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rekk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294C-1D5E-4AE7-BB17-5ECAAB29B3F4}" type="slidenum">
              <a:rPr b="0" lang="en-US" sz="1400" spc="-1" strike="noStrike">
                <a:solidFill>
                  <a:srgbClr val="eaeaea"/>
                </a:solidFill>
                <a:latin typeface="Trekke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52480" y="380880"/>
            <a:ext cx="57913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Unit 1, Part 1: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Origi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of Huma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600200" y="5502240"/>
            <a:ext cx="6095880" cy="1015920"/>
          </a:xfrm>
          <a:prstGeom prst="rect">
            <a:avLst/>
          </a:prstGeom>
          <a:noFill/>
          <a:ln w="19080">
            <a:solidFill>
              <a:srgbClr val="66ffff"/>
            </a:solidFill>
            <a:miter/>
          </a:ln>
          <a:effectLst>
            <a:outerShdw dist="17819" dir="27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Mr. Pagli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eymour High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Laetoli_Tanzania--longstream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844720" y="3048120"/>
            <a:ext cx="3741840" cy="203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ap-ParallelEvolutionTheor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0" y="2743200"/>
            <a:ext cx="44118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6" descr="Map-RadiationTheory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2280" y="2743200"/>
            <a:ext cx="4437360" cy="290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WordArt 7"/>
          <p:cNvSpPr txBox="1"/>
          <p:nvPr/>
        </p:nvSpPr>
        <p:spPr>
          <a:xfrm>
            <a:off x="1066680" y="457200"/>
            <a:ext cx="73152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t-of-Africa Migration Theori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2120" y="1905120"/>
            <a:ext cx="7619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re we all Africans in orig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666880" y="45720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43200" y="137160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52480" y="2147760"/>
            <a:ext cx="5562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00,000 BC – 1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581280" y="2590920"/>
            <a:ext cx="411480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MO SAPIEN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 “Wise Human Being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HomoSapiens-Meanderthalensis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5800" y="2133720"/>
            <a:ext cx="1905120" cy="227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9"/>
          <p:cNvSpPr/>
          <p:nvPr/>
        </p:nvSpPr>
        <p:spPr>
          <a:xfrm>
            <a:off x="4038480" y="48610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666880" y="4191120"/>
            <a:ext cx="3429000" cy="6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Neanderthals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 200,000 BC – 30,000 BC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248520" y="3962520"/>
            <a:ext cx="2895480" cy="122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omo Sapiens Sapiens (Cro-Magnons)</a:t>
            </a:r>
            <a:br>
              <a:rPr sz="2000"/>
            </a:b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( 40,000 BC – 10,000 BC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 flipH="1">
            <a:off x="4647960" y="3352680"/>
            <a:ext cx="114300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5791320" y="3352680"/>
            <a:ext cx="914400" cy="6098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H="1">
            <a:off x="3428640" y="4952880"/>
            <a:ext cx="1143000" cy="7621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6858000" y="5334120"/>
            <a:ext cx="30492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http://assets.nydailynews.com/img/2010/07/23/alg_the_situation.jpg"/>
          <p:cNvPicPr/>
          <p:nvPr/>
        </p:nvPicPr>
        <p:blipFill>
          <a:blip r:embed="rId2"/>
          <a:stretch/>
        </p:blipFill>
        <p:spPr>
          <a:xfrm>
            <a:off x="0" y="4572000"/>
            <a:ext cx="30290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2010-06-16 KSC 007.JPG"/>
          <p:cNvPicPr/>
          <p:nvPr/>
        </p:nvPicPr>
        <p:blipFill>
          <a:blip r:embed="rId3"/>
          <a:stretch/>
        </p:blipFill>
        <p:spPr>
          <a:xfrm>
            <a:off x="7162920" y="52578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2971800" y="30492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1600200"/>
            <a:ext cx="3657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EANDERTH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NeanderthalDiorama"/>
          <p:cNvPicPr/>
          <p:nvPr/>
        </p:nvPicPr>
        <p:blipFill>
          <a:blip r:embed="rId1"/>
          <a:stretch/>
        </p:blipFill>
        <p:spPr>
          <a:xfrm>
            <a:off x="3962520" y="2743200"/>
            <a:ext cx="49464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 Box 7"/>
          <p:cNvSpPr/>
          <p:nvPr/>
        </p:nvSpPr>
        <p:spPr>
          <a:xfrm>
            <a:off x="838080" y="2270160"/>
            <a:ext cx="3276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Neander Valley,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Germany (185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38080" y="3200400"/>
            <a:ext cx="3657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irst humans to bury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heir d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838080" y="4098960"/>
            <a:ext cx="3733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de clothes from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animal sk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838080" y="5089680"/>
            <a:ext cx="35053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ived in caves 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895480" y="3808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867280" y="1447920"/>
            <a:ext cx="3200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EANDERTH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6" descr="Neanderthal_Tent"/>
          <p:cNvPicPr/>
          <p:nvPr/>
        </p:nvPicPr>
        <p:blipFill>
          <a:blip r:embed="rId1"/>
          <a:stretch/>
        </p:blipFill>
        <p:spPr>
          <a:xfrm>
            <a:off x="6095880" y="2057400"/>
            <a:ext cx="274320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7" descr="Map-NeanderthalSites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7160" y="2362320"/>
            <a:ext cx="57718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8"/>
          <p:cNvSpPr/>
          <p:nvPr/>
        </p:nvSpPr>
        <p:spPr>
          <a:xfrm>
            <a:off x="6477120" y="4022640"/>
            <a:ext cx="205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Comic Sans MS"/>
              </a:rPr>
              <a:t>Early Hut/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Neanderthal_v_ModernMan-brains"/>
          <p:cNvPicPr/>
          <p:nvPr/>
        </p:nvPicPr>
        <p:blipFill>
          <a:blip r:embed="rId3"/>
          <a:stretch/>
        </p:blipFill>
        <p:spPr>
          <a:xfrm>
            <a:off x="6324480" y="4959360"/>
            <a:ext cx="2362320" cy="121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048120" y="3049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600200"/>
            <a:ext cx="37339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CRO-MAGN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00200" y="2193840"/>
            <a:ext cx="4038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Homo sapiens sapie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( “Wise, wise human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23880" y="524196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y 30,000 BCE the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  replaced Neanderth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6095880" y="533412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WHY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CroMagnonSkulls-HomoSapiensSapiens"/>
          <p:cNvPicPr/>
          <p:nvPr/>
        </p:nvPicPr>
        <p:blipFill>
          <a:blip r:embed="rId1"/>
          <a:stretch/>
        </p:blipFill>
        <p:spPr>
          <a:xfrm>
            <a:off x="1523880" y="3263760"/>
            <a:ext cx="5931000" cy="15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Line 11"/>
          <p:cNvSpPr/>
          <p:nvPr/>
        </p:nvSpPr>
        <p:spPr>
          <a:xfrm>
            <a:off x="4724280" y="5562720"/>
            <a:ext cx="14479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-HomoSS-sites In Europ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2057400"/>
            <a:ext cx="6888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371600" y="68580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mo sapiens sapiens in Europ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1600200" y="533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Last Ice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19320" y="160020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70,000 BC – 10,000 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6" descr="Map-IceAge"/>
          <p:cNvPicPr/>
          <p:nvPr/>
        </p:nvPicPr>
        <p:blipFill>
          <a:blip r:embed="rId1"/>
          <a:stretch/>
        </p:blipFill>
        <p:spPr>
          <a:xfrm>
            <a:off x="838080" y="2362320"/>
            <a:ext cx="7651800" cy="412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752480" y="76212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N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752480" y="249876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Neolithic”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New Stone”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52480" y="326088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0,000 BC – 4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52480" y="3733920"/>
            <a:ext cx="4724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adual shift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676520" y="4495680"/>
            <a:ext cx="7315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madic lifestyle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settled, stationery lifesty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600200" y="5486400"/>
            <a:ext cx="7391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unting/Gathering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agricultural production and                       domestication of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33720" y="2193840"/>
            <a:ext cx="4952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8,000 BC – 5,0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133720" y="2895480"/>
            <a:ext cx="65530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Agriculture developed independently in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 different parts of the wor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66880" y="3673440"/>
            <a:ext cx="4496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ffff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LASH-AND-BURN F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2280" y="4267080"/>
            <a:ext cx="845820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iddle East      India      Central America      China      Southeast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8,000 BC     7,000 BC     6,500 BC    6,000 BC        5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914400" y="4648320"/>
            <a:ext cx="6858000" cy="1039680"/>
            <a:chOff x="914400" y="4648320"/>
            <a:chExt cx="6858000" cy="1039680"/>
          </a:xfrm>
        </p:grpSpPr>
        <p:sp>
          <p:nvSpPr>
            <p:cNvPr id="157" name="Line 9"/>
            <p:cNvSpPr/>
            <p:nvPr/>
          </p:nvSpPr>
          <p:spPr>
            <a:xfrm>
              <a:off x="914400" y="5118120"/>
              <a:ext cx="685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>
              <a:off x="914400" y="4648320"/>
              <a:ext cx="0" cy="9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2496960" y="474984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425592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592632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7772400" y="4648320"/>
              <a:ext cx="0" cy="93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3505320" y="3200400"/>
            <a:ext cx="243828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809880" y="3429000"/>
            <a:ext cx="18288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5"/>
          <p:cNvSpPr/>
          <p:nvPr/>
        </p:nvSpPr>
        <p:spPr>
          <a:xfrm>
            <a:off x="1447920" y="2438280"/>
            <a:ext cx="1676160" cy="838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6"/>
          <p:cNvSpPr/>
          <p:nvPr/>
        </p:nvSpPr>
        <p:spPr>
          <a:xfrm>
            <a:off x="1523880" y="457200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6248520" y="2362320"/>
            <a:ext cx="167616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6172200" y="4648320"/>
            <a:ext cx="167652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2819520" y="3124080"/>
            <a:ext cx="838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2971800" y="434340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791320" y="320040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5410080" y="434340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21337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69343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68580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TextBox 16"/>
          <p:cNvGrpSpPr/>
          <p:nvPr/>
        </p:nvGrpSpPr>
        <p:grpSpPr>
          <a:xfrm>
            <a:off x="749160" y="5553000"/>
            <a:ext cx="8029800" cy="1096920"/>
            <a:chOff x="749160" y="5553000"/>
            <a:chExt cx="8029800" cy="1096920"/>
          </a:xfrm>
        </p:grpSpPr>
        <p:pic>
          <p:nvPicPr>
            <p:cNvPr id="179" name="TextBox 16" descr=""/>
            <p:cNvPicPr/>
            <p:nvPr/>
          </p:nvPicPr>
          <p:blipFill>
            <a:blip r:embed="rId1"/>
            <a:stretch/>
          </p:blipFill>
          <p:spPr>
            <a:xfrm>
              <a:off x="749160" y="5553000"/>
              <a:ext cx="80298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762120" y="5567040"/>
              <a:ext cx="8001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262699"/>
                  </a:solidFill>
                  <a:latin typeface="Times New Roman"/>
                </a:rPr>
                <a:t>What are the possible outcomes of the this shif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219320" y="3181320"/>
            <a:ext cx="5715000" cy="207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Theories on prehistory and early man constantly change as new evidence comes to light.       </a:t>
            </a:r>
            <a:br>
              <a:rPr sz="2600"/>
            </a:b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- Louis Leakey, British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          paleoanthropolog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1523880" y="609480"/>
            <a:ext cx="6019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The First Huma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pic>
        <p:nvPicPr>
          <p:cNvPr id="46" name="Picture 7" descr="LouisLeakey"/>
          <p:cNvPicPr/>
          <p:nvPr/>
        </p:nvPicPr>
        <p:blipFill>
          <a:blip r:embed="rId1"/>
          <a:stretch/>
        </p:blipFill>
        <p:spPr>
          <a:xfrm>
            <a:off x="6765840" y="2971800"/>
            <a:ext cx="154008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Line 9"/>
          <p:cNvSpPr/>
          <p:nvPr/>
        </p:nvSpPr>
        <p:spPr>
          <a:xfrm>
            <a:off x="5943600" y="502920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219320" y="2575080"/>
            <a:ext cx="6705360" cy="31413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ff"/>
                </a:solidFill>
                <a:latin typeface="Comic Sans MS"/>
              </a:rPr>
              <a:t>Why do you think the development of agriculture occurred around the same time in several different plac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219320" y="2714760"/>
            <a:ext cx="6705360" cy="2775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Comic Sans MS"/>
              </a:rPr>
              <a:t>Why do some archaeologists believe that women were the first far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990720" y="53352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914400" y="1905120"/>
            <a:ext cx="7848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Growing crops on a regular basis made possible th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support of larger pop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914400" y="2743200"/>
            <a:ext cx="7467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ore permanent, settled communities emerg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14400" y="3352680"/>
            <a:ext cx="7848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9,000 B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Earliest Agricultural Settlement at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JARMO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 northern Iraq )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h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0" descr="Jarmo"/>
          <p:cNvPicPr/>
          <p:nvPr/>
        </p:nvPicPr>
        <p:blipFill>
          <a:blip r:embed="rId1">
            <a:lum contrast="24000"/>
          </a:blip>
          <a:srcRect l="12505" t="8141" r="12505" b="15118"/>
          <a:stretch/>
        </p:blipFill>
        <p:spPr>
          <a:xfrm>
            <a:off x="914400" y="4495680"/>
            <a:ext cx="3200400" cy="22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11" descr="Jarmo-1"/>
          <p:cNvPicPr/>
          <p:nvPr/>
        </p:nvPicPr>
        <p:blipFill>
          <a:blip r:embed="rId2">
            <a:lum contrast="6000"/>
          </a:blip>
          <a:srcRect l="6942" t="2220" r="18058" b="24657"/>
          <a:stretch/>
        </p:blipFill>
        <p:spPr>
          <a:xfrm>
            <a:off x="4952880" y="4495680"/>
            <a:ext cx="34909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66680" y="533520"/>
            <a:ext cx="7010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5800" y="2057400"/>
            <a:ext cx="7620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8,000 B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Largest Early Settlement at</a:t>
            </a: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 Unicode MS"/>
              </a:rPr>
              <a:t>Ç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tal H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ü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yük</a:t>
            </a: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 Modern Turkey )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6,000 inhabi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85800" y="350532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Division of la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5800" y="4114800"/>
            <a:ext cx="3581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Engaged in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85800" y="4724280"/>
            <a:ext cx="3733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Organized 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5800" y="5334120"/>
            <a:ext cx="243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Small mil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85800" y="2895480"/>
            <a:ext cx="3048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12 cultivated cr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2" descr="CatalHuyuk-flint_dagger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4114800"/>
            <a:ext cx="4064040" cy="74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Text Box 13"/>
          <p:cNvSpPr/>
          <p:nvPr/>
        </p:nvSpPr>
        <p:spPr>
          <a:xfrm>
            <a:off x="5029200" y="5029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 obsidian da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990720" y="533520"/>
            <a:ext cx="701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Settled Commun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5" descr="CatalHuyuk-site_plan"/>
          <p:cNvPicPr/>
          <p:nvPr/>
        </p:nvPicPr>
        <p:blipFill>
          <a:blip r:embed="rId1"/>
          <a:stretch/>
        </p:blipFill>
        <p:spPr>
          <a:xfrm>
            <a:off x="990720" y="2209680"/>
            <a:ext cx="365760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6" descr="CatalHuyuk-site_computer-generated"/>
          <p:cNvPicPr/>
          <p:nvPr/>
        </p:nvPicPr>
        <p:blipFill>
          <a:blip r:embed="rId2"/>
          <a:stretch/>
        </p:blipFill>
        <p:spPr>
          <a:xfrm>
            <a:off x="5105520" y="1828800"/>
            <a:ext cx="354636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Rectangle 8"/>
          <p:cNvSpPr/>
          <p:nvPr/>
        </p:nvSpPr>
        <p:spPr>
          <a:xfrm>
            <a:off x="1325520" y="5257800"/>
            <a:ext cx="22557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Çatal Hüyü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 flipV="1">
            <a:off x="2895480" y="4952520"/>
            <a:ext cx="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3581280" y="5486400"/>
            <a:ext cx="1371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066680" y="533520"/>
            <a:ext cx="716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gricultural Revolu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143000" y="2133720"/>
            <a:ext cx="6934320" cy="41158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ff"/>
                </a:solidFill>
                <a:latin typeface="Comic Sans MS"/>
              </a:rPr>
              <a:t>What role did the food supply play in shaping the nomadic life of hunter-gatherers and the settled life of the far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4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y is th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Neolithic Revolution"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 turning point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human history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533520" y="114300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step in the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evelopment of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uman settlements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914400" y="3657600"/>
            <a:ext cx="7467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S !!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2438280" y="83808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TIES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648320" y="21337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380880" y="99072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are the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aracteristic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f a civilization??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371600" y="1324080"/>
            <a:ext cx="647712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WordArt 8"/>
          <p:cNvSpPr txBox="1"/>
          <p:nvPr/>
        </p:nvSpPr>
        <p:spPr>
          <a:xfrm>
            <a:off x="251460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Early Discover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Oval 5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WordArt 11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pecial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3"/>
          <p:cNvSpPr/>
          <p:nvPr/>
        </p:nvSpPr>
        <p:spPr>
          <a:xfrm>
            <a:off x="403848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stit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14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c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K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15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6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7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480060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Wave 13"/>
          <p:cNvSpPr/>
          <p:nvPr/>
        </p:nvSpPr>
        <p:spPr>
          <a:xfrm>
            <a:off x="2286000" y="228600"/>
            <a:ext cx="5105520" cy="1143000"/>
          </a:xfrm>
          <a:custGeom>
            <a:avLst/>
            <a:gdLst>
              <a:gd name="textAreaLeft" fmla="*/ 0 w 5105520"/>
              <a:gd name="textAreaRight" fmla="*/ 5105880 w 5105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rekker"/>
              </a:rPr>
              <a:t>Book’s 5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5"/>
          <p:cNvSpPr/>
          <p:nvPr/>
        </p:nvSpPr>
        <p:spPr>
          <a:xfrm>
            <a:off x="6858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11"/>
          <p:cNvSpPr txBox="1"/>
          <p:nvPr/>
        </p:nvSpPr>
        <p:spPr>
          <a:xfrm>
            <a:off x="2895480" y="167652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IVILIZAT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Oval 12"/>
          <p:cNvSpPr/>
          <p:nvPr/>
        </p:nvSpPr>
        <p:spPr>
          <a:xfrm>
            <a:off x="182880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3"/>
          <p:cNvSpPr/>
          <p:nvPr/>
        </p:nvSpPr>
        <p:spPr>
          <a:xfrm>
            <a:off x="2971800" y="4724280"/>
            <a:ext cx="144792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rit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4"/>
          <p:cNvSpPr/>
          <p:nvPr/>
        </p:nvSpPr>
        <p:spPr>
          <a:xfrm>
            <a:off x="6095880" y="350532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lig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7315200" y="1600200"/>
            <a:ext cx="1447920" cy="1295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213336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2971800" y="28954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4038120" y="289548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5943600" y="28195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0"/>
          <p:cNvSpPr/>
          <p:nvPr/>
        </p:nvSpPr>
        <p:spPr>
          <a:xfrm>
            <a:off x="66294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Wave 13"/>
          <p:cNvSpPr/>
          <p:nvPr/>
        </p:nvSpPr>
        <p:spPr>
          <a:xfrm>
            <a:off x="2286000" y="228600"/>
            <a:ext cx="5105520" cy="1143000"/>
          </a:xfrm>
          <a:custGeom>
            <a:avLst/>
            <a:gdLst>
              <a:gd name="textAreaLeft" fmla="*/ 0 w 5105520"/>
              <a:gd name="textAreaRight" fmla="*/ 5105880 w 5105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8566"/>
          </a:solidFill>
          <a:ln w="25560">
            <a:solidFill>
              <a:srgbClr val="b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6e6e6"/>
                </a:solidFill>
                <a:latin typeface="Trekker"/>
              </a:rPr>
              <a:t>Mr. Pagliaro’s 6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5105520" y="4724280"/>
            <a:ext cx="1447560" cy="1295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t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4952880" y="2819520"/>
            <a:ext cx="68580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1447920" y="457200"/>
            <a:ext cx="6324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s of Earl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Human Developmen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2120" y="3429000"/>
            <a:ext cx="2666880" cy="147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Paleolithic Age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 Old Stone Ag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2,500,000 BC  </a:t>
            </a:r>
            <a:br>
              <a:rPr sz="2000"/>
            </a:br>
            <a:r>
              <a:rPr b="1" lang="en-US" sz="2000" spc="-1" strike="noStrike">
                <a:solidFill>
                  <a:srgbClr val="ffff66"/>
                </a:solidFill>
                <a:latin typeface="Comic Sans MS"/>
              </a:rPr>
              <a:t>   to 8,0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1981080" y="2895480"/>
            <a:ext cx="6934320" cy="2364840"/>
            <a:chOff x="1981080" y="2895480"/>
            <a:chExt cx="6934320" cy="2364840"/>
          </a:xfrm>
        </p:grpSpPr>
        <p:sp>
          <p:nvSpPr>
            <p:cNvPr id="53" name="Text Box 7"/>
            <p:cNvSpPr/>
            <p:nvPr/>
          </p:nvSpPr>
          <p:spPr>
            <a:xfrm>
              <a:off x="3428640" y="2895480"/>
              <a:ext cx="548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1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4,000,000 BC – 1,00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3428640" y="3504960"/>
              <a:ext cx="5486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2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1,500,000 BC - 25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3428640" y="4114800"/>
              <a:ext cx="5181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3.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250,000 BC – 3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 flipV="1">
              <a:off x="1981080" y="3276000"/>
              <a:ext cx="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1981080" y="3276360"/>
              <a:ext cx="129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057040" y="4953240"/>
              <a:ext cx="0" cy="228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>
              <a:off x="2057040" y="51818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3428640" y="4800600"/>
              <a:ext cx="4953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4. 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30,000 BC – c. 10,000 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5"/>
          <p:cNvSpPr txBox="1"/>
          <p:nvPr/>
        </p:nvSpPr>
        <p:spPr>
          <a:xfrm>
            <a:off x="1676520" y="457200"/>
            <a:ext cx="5715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47920" y="1828800"/>
            <a:ext cx="556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aleolithic”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 --&gt;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“Old Stone”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447920" y="2362320"/>
            <a:ext cx="4876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2,500,000 BCE – 10,000 B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447920" y="4876920"/>
            <a:ext cx="6095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hunting (men) &amp; gathering (women)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       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small bands of 20-30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447920" y="571500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NOMADIC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(moving from place to pl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447920" y="2895480"/>
            <a:ext cx="198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de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3" descr="Tools-HomoS-S"/>
          <p:cNvPicPr/>
          <p:nvPr/>
        </p:nvPicPr>
        <p:blipFill>
          <a:blip r:embed="rId1"/>
          <a:stretch/>
        </p:blipFill>
        <p:spPr>
          <a:xfrm>
            <a:off x="4114800" y="3048120"/>
            <a:ext cx="3276720" cy="1528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68" name="Line 14"/>
          <p:cNvSpPr/>
          <p:nvPr/>
        </p:nvSpPr>
        <p:spPr>
          <a:xfrm>
            <a:off x="312408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5"/>
          <p:cNvSpPr txBox="1"/>
          <p:nvPr/>
        </p:nvSpPr>
        <p:spPr>
          <a:xfrm>
            <a:off x="2819520" y="45720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828800" y="1828800"/>
            <a:ext cx="5715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,000,000 BC – 1,00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971800" y="2803680"/>
            <a:ext cx="40384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ominid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&gt; any me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of the family of two-legg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primates that includes a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971800" y="478476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Australopithec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AustralopithecusAfricanus-2"/>
          <p:cNvPicPr/>
          <p:nvPr/>
        </p:nvPicPr>
        <p:blipFill>
          <a:blip r:embed="rId1"/>
          <a:stretch/>
        </p:blipFill>
        <p:spPr>
          <a:xfrm>
            <a:off x="6946920" y="2932200"/>
            <a:ext cx="1295280" cy="232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AustralopithecusAfricanus"/>
          <p:cNvPicPr/>
          <p:nvPr/>
        </p:nvPicPr>
        <p:blipFill>
          <a:blip r:embed="rId2"/>
          <a:stretch/>
        </p:blipFill>
        <p:spPr>
          <a:xfrm>
            <a:off x="762120" y="3124080"/>
            <a:ext cx="1966680" cy="255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4"/>
          <p:cNvSpPr/>
          <p:nvPr/>
        </p:nvSpPr>
        <p:spPr>
          <a:xfrm>
            <a:off x="6477120" y="5470560"/>
            <a:ext cx="26668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n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opposable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thu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819520" y="45720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47920" y="1676520"/>
            <a:ext cx="350496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MO HABILIS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  ( “Man of Skills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47920" y="2651040"/>
            <a:ext cx="320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nd in East Af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map-FirstHumans"/>
          <p:cNvPicPr/>
          <p:nvPr/>
        </p:nvPicPr>
        <p:blipFill>
          <a:blip r:embed="rId1"/>
          <a:stretch/>
        </p:blipFill>
        <p:spPr>
          <a:xfrm>
            <a:off x="5181480" y="2666880"/>
            <a:ext cx="297972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8" descr="HomoHabilis"/>
          <p:cNvPicPr/>
          <p:nvPr/>
        </p:nvPicPr>
        <p:blipFill>
          <a:blip r:embed="rId2"/>
          <a:stretch/>
        </p:blipFill>
        <p:spPr>
          <a:xfrm>
            <a:off x="6705720" y="484200"/>
            <a:ext cx="1828800" cy="172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447920" y="3260880"/>
            <a:ext cx="3276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reated stone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"/>
          <p:cNvPicPr/>
          <p:nvPr/>
        </p:nvPicPr>
        <p:blipFill>
          <a:blip r:embed="rId3"/>
          <a:srcRect l="0" t="0" r="0" b="15850"/>
          <a:stretch/>
        </p:blipFill>
        <p:spPr>
          <a:xfrm>
            <a:off x="1143000" y="3962520"/>
            <a:ext cx="30225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828800" y="380880"/>
            <a:ext cx="5486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aleolithic 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43000" y="1660680"/>
            <a:ext cx="7315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Humans during this period found shelter in c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altbison"/>
          <p:cNvPicPr/>
          <p:nvPr/>
        </p:nvPicPr>
        <p:blipFill>
          <a:blip r:embed="rId1"/>
          <a:stretch/>
        </p:blipFill>
        <p:spPr>
          <a:xfrm>
            <a:off x="3962520" y="2743200"/>
            <a:ext cx="2057400" cy="15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9" descr="h-horse-pictographs"/>
          <p:cNvPicPr/>
          <p:nvPr/>
        </p:nvPicPr>
        <p:blipFill>
          <a:blip r:embed="rId2"/>
          <a:stretch/>
        </p:blipFill>
        <p:spPr>
          <a:xfrm>
            <a:off x="3048120" y="4749840"/>
            <a:ext cx="570204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Text Box 10"/>
          <p:cNvSpPr/>
          <p:nvPr/>
        </p:nvSpPr>
        <p:spPr>
          <a:xfrm>
            <a:off x="1143000" y="2193840"/>
            <a:ext cx="4419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Cave paintings left behi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248520" y="3429000"/>
            <a:ext cx="761760" cy="76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172200" y="220968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086600" y="3276720"/>
            <a:ext cx="18288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Comic Sans MS"/>
              </a:rPr>
              <a:t>Purpose?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4" descr="Hands_KakaduNatlPark-Australia"/>
          <p:cNvPicPr/>
          <p:nvPr/>
        </p:nvPicPr>
        <p:blipFill>
          <a:blip r:embed="rId3"/>
          <a:stretch/>
        </p:blipFill>
        <p:spPr>
          <a:xfrm>
            <a:off x="685800" y="3200400"/>
            <a:ext cx="1905120" cy="20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15"/>
          <p:cNvSpPr/>
          <p:nvPr/>
        </p:nvSpPr>
        <p:spPr>
          <a:xfrm flipH="1">
            <a:off x="7467120" y="3733920"/>
            <a:ext cx="228600" cy="761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971800" y="45720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heshireBroad"/>
              </a:rPr>
              <a:t>Stage 2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heshireBroad"/>
              <a:ea typeface="CheshireBroad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81080" y="1600200"/>
            <a:ext cx="533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,600,000 BC – 30,000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2120" y="2286000"/>
            <a:ext cx="4343400" cy="76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OMO ERECTUS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 “Upright Person”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HomoErectus-3heads"/>
          <p:cNvPicPr/>
          <p:nvPr/>
        </p:nvPicPr>
        <p:blipFill>
          <a:blip r:embed="rId1"/>
          <a:stretch/>
        </p:blipFill>
        <p:spPr>
          <a:xfrm>
            <a:off x="5257800" y="2743200"/>
            <a:ext cx="3365640" cy="12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762120" y="3794040"/>
            <a:ext cx="4647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rger and more varied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tool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primi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62120" y="4784760"/>
            <a:ext cx="449568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rst hominid to migrate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leave Africa for Europe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Asia…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295280" y="5791320"/>
            <a:ext cx="4724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rst to use fire ( 500,000 B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" descr="flame"/>
          <p:cNvPicPr/>
          <p:nvPr/>
        </p:nvPicPr>
        <p:blipFill>
          <a:blip r:embed="rId2"/>
          <a:stretch/>
        </p:blipFill>
        <p:spPr>
          <a:xfrm rot="20855400">
            <a:off x="6002280" y="4241880"/>
            <a:ext cx="2127240" cy="2189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1676520" y="3184560"/>
            <a:ext cx="2361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FULLY BI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0:43:49Z</dcterms:created>
  <dc:creator>Susan M. Pojer</dc:creator>
  <dc:description/>
  <dc:language>en-US</dc:language>
  <cp:lastModifiedBy>Christopher Pagliaro</cp:lastModifiedBy>
  <dcterms:modified xsi:type="dcterms:W3CDTF">2010-08-26T00:12:35Z</dcterms:modified>
  <cp:revision>153</cp:revision>
  <dc:subject/>
  <dc:title>The Origin of Humans</dc:title>
</cp:coreProperties>
</file>